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C08065-14CB-46A4-908F-DCA74665445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008080"/>
                </a:solidFill>
                <a:latin typeface="Arial"/>
              </a:rPr>
              <a:t>Ministério da Previdênci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55640" y="2781360"/>
            <a:ext cx="77756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Os Conselhos de Previdência So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Março -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57200" y="1484280"/>
          <a:ext cx="8229600" cy="4608720"/>
        </p:xfrm>
        <a:graphic>
          <a:graphicData uri="http://schemas.openxmlformats.org/drawingml/2006/table">
            <a:tbl>
              <a:tblPr/>
              <a:tblGrid>
                <a:gridCol w="1336680"/>
                <a:gridCol w="600120"/>
                <a:gridCol w="438120"/>
                <a:gridCol w="412560"/>
                <a:gridCol w="412920"/>
                <a:gridCol w="412920"/>
                <a:gridCol w="414000"/>
                <a:gridCol w="412920"/>
                <a:gridCol w="412920"/>
                <a:gridCol w="412560"/>
                <a:gridCol w="412920"/>
                <a:gridCol w="412560"/>
                <a:gridCol w="412920"/>
                <a:gridCol w="414360"/>
                <a:gridCol w="412560"/>
                <a:gridCol w="898560"/>
              </a:tblGrid>
              <a:tr h="46044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ó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2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0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SITUAÇÃO REG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1123920"/>
          <a:ext cx="8064360" cy="5446800"/>
        </p:xfrm>
        <a:graphic>
          <a:graphicData uri="http://schemas.openxmlformats.org/drawingml/2006/table">
            <a:tbl>
              <a:tblPr/>
              <a:tblGrid>
                <a:gridCol w="2109600"/>
                <a:gridCol w="2789280"/>
                <a:gridCol w="3165480"/>
              </a:tblGrid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06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çatuba, Bauru, Campinas, Jundiaí, Marília, Piracicaba, Ribeirão Preto, Santo André, Santos, São José dos Campos, São Paulo, Sorocaba, Taubat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raquara, Guarulhos, Osasco, Presidente Prudente, São Bernardo do Campo, São João da Boa Vista, São José do Rio Pret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458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lo Horizonte, Contagem, Diamantina, Ouro Preto,  Teófilo Otoni, Varginha, Vitó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rbacena, Campos dos Goytacazes, Divinópolis, Duque de Caxias, Governador Valadares, Juiz de Fora, Montes Claros, Niterói, Petrópolis, Poços de Caldas, Rio de Janeiro, Uberaba, Uberlând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649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lumenau, Canoas, Cascavel, Caxias do Sul, Chapecó, Criciúma, Curitiba, Florianópolis, Ijuí, Joinville, Maringá, Novo Hamburgo, Pelotas, Ponta Grossa, Porto Alegre, Santa Maria, Uruguaia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ina, Passo Fun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509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d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mpina Grande, Garanhus, Itabuna,  João Pessoa, Juazeiro, Juazeiro do Norte, Maceió, Petrol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caju, Barreiras, Caruaru, Feira de Santana, Fortaleza, Imperatriz, Mossoró, Natal,  Recife, Santo Antônio de Jesus, São Luís, Salvador, Sobral, Teresina, Vitória da Conquis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2714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te/Centro-O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strito Federal, Dourados, Goiânia, Mana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ápolis, Belém, Boa Vista, Campo Grande, Cuiabá, Macapá, Palmas, Porto Velho, Rio Branco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9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RESUMO GE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5640" y="1341360"/>
          <a:ext cx="7848720" cy="3959280"/>
        </p:xfrm>
        <a:graphic>
          <a:graphicData uri="http://schemas.openxmlformats.org/drawingml/2006/table">
            <a:tbl>
              <a:tblPr/>
              <a:tblGrid>
                <a:gridCol w="3032280"/>
                <a:gridCol w="2374920"/>
                <a:gridCol w="2441520"/>
              </a:tblGrid>
              <a:tr h="603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1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01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te/Centro-O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4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CaixaDeTexto 3"/>
          <p:cNvSpPr/>
          <p:nvPr/>
        </p:nvSpPr>
        <p:spPr>
          <a:xfrm>
            <a:off x="755640" y="541512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Observação: O Conselho de Volta Redonda, referente à Superintendência Regional Sudeste II, nunca foi instalado e o CPS de Niterói/RJ, regional Sudeste II, estará reinstalando o Conselho em março/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CRONOGRAMA DE REUNIÕES – CPS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205000"/>
          <a:ext cx="8229600" cy="2935440"/>
        </p:xfrm>
        <a:graphic>
          <a:graphicData uri="http://schemas.openxmlformats.org/drawingml/2006/table">
            <a:tbl>
              <a:tblPr/>
              <a:tblGrid>
                <a:gridCol w="1230480"/>
                <a:gridCol w="768240"/>
                <a:gridCol w="617400"/>
                <a:gridCol w="471600"/>
                <a:gridCol w="527040"/>
                <a:gridCol w="539640"/>
                <a:gridCol w="460440"/>
                <a:gridCol w="617400"/>
                <a:gridCol w="692280"/>
                <a:gridCol w="692280"/>
                <a:gridCol w="768240"/>
                <a:gridCol w="844560"/>
              </a:tblGrid>
              <a:tr h="576360">
                <a:tc gridSpan="12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240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diaí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4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íl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84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racica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204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o Andr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84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pin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129"/>
          <p:cNvSpPr/>
          <p:nvPr/>
        </p:nvSpPr>
        <p:spPr>
          <a:xfrm>
            <a:off x="457200" y="276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2492280"/>
          <a:ext cx="8229600" cy="2016360"/>
        </p:xfrm>
        <a:graphic>
          <a:graphicData uri="http://schemas.openxmlformats.org/drawingml/2006/table">
            <a:tbl>
              <a:tblPr/>
              <a:tblGrid>
                <a:gridCol w="1461960"/>
                <a:gridCol w="768600"/>
                <a:gridCol w="558720"/>
                <a:gridCol w="517320"/>
                <a:gridCol w="462240"/>
                <a:gridCol w="537840"/>
                <a:gridCol w="462240"/>
                <a:gridCol w="538200"/>
                <a:gridCol w="691920"/>
                <a:gridCol w="692280"/>
                <a:gridCol w="770040"/>
                <a:gridCol w="768240"/>
              </a:tblGrid>
              <a:tr h="503280">
                <a:tc gridSpan="12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32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vernador Valada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050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amanti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484280"/>
          <a:ext cx="8229600" cy="4241880"/>
        </p:xfrm>
        <a:graphic>
          <a:graphicData uri="http://schemas.openxmlformats.org/drawingml/2006/table">
            <a:tbl>
              <a:tblPr/>
              <a:tblGrid>
                <a:gridCol w="1319040"/>
                <a:gridCol w="774720"/>
                <a:gridCol w="547920"/>
                <a:gridCol w="460440"/>
                <a:gridCol w="541080"/>
                <a:gridCol w="515880"/>
                <a:gridCol w="492120"/>
                <a:gridCol w="554040"/>
                <a:gridCol w="698760"/>
                <a:gridCol w="696960"/>
                <a:gridCol w="853920"/>
                <a:gridCol w="774720"/>
              </a:tblGrid>
              <a:tr h="50472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o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sso Fund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ju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a Gros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ngá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xias do Su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lot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to Aleg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39"/>
          <p:cNvSpPr/>
          <p:nvPr/>
        </p:nvSpPr>
        <p:spPr>
          <a:xfrm>
            <a:off x="457200" y="2130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2421000"/>
          <a:ext cx="8229600" cy="1915920"/>
        </p:xfrm>
        <a:graphic>
          <a:graphicData uri="http://schemas.openxmlformats.org/drawingml/2006/table">
            <a:tbl>
              <a:tblPr/>
              <a:tblGrid>
                <a:gridCol w="1320840"/>
                <a:gridCol w="776160"/>
                <a:gridCol w="558720"/>
                <a:gridCol w="451080"/>
                <a:gridCol w="542880"/>
                <a:gridCol w="542880"/>
                <a:gridCol w="466920"/>
                <a:gridCol w="542880"/>
                <a:gridCol w="698400"/>
                <a:gridCol w="698400"/>
                <a:gridCol w="854280"/>
                <a:gridCol w="776160"/>
              </a:tblGrid>
              <a:tr h="63828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79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azeiro do Nor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1"/>
          <p:cNvSpPr/>
          <p:nvPr/>
        </p:nvSpPr>
        <p:spPr>
          <a:xfrm>
            <a:off x="457200" y="3389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que são os Conselhos de Previdência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0920" y="1413000"/>
            <a:ext cx="8569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de 11 de novembro, foram criados os Conselhos de Previdência Social - CPS, unidades descentralizadas do Conselho Nacional de Previdência Social – CNPS, vinculadas ou funcionando junto às Gerências-Executivas do Instituto Nacional do Seguro Social -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onselho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3333cc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08000" y="981000"/>
            <a:ext cx="885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representante tem como principal atribuição identificar características da Previdência que possam ser aperfeiçoadas; fazer propostas para melhorar a gestão do sistema previdenciário; facilitar o desenvolvimento e solidificação da gestão democrática e próxima dos cidadãos, além de exercer o controle social sobre a administração públ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108000" y="981000"/>
            <a:ext cx="885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tual regimento interno dos CPS foi aprovado pela Resolução nº 1.304 de 10 de dezembro de 2008 do CN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1871640"/>
            <a:ext cx="8424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197000"/>
          <a:ext cx="8435880" cy="518472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2280"/>
                <a:gridCol w="424080"/>
                <a:gridCol w="423720"/>
                <a:gridCol w="422280"/>
                <a:gridCol w="922320"/>
              </a:tblGrid>
              <a:tr h="29052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95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13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1197000"/>
          <a:ext cx="8435880" cy="508968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2280"/>
                <a:gridCol w="424080"/>
                <a:gridCol w="423720"/>
                <a:gridCol w="422280"/>
                <a:gridCol w="922320"/>
              </a:tblGrid>
              <a:tr h="27612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9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1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0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268280"/>
          <a:ext cx="8435880" cy="504036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2280"/>
                <a:gridCol w="424080"/>
                <a:gridCol w="423720"/>
                <a:gridCol w="422280"/>
                <a:gridCol w="922320"/>
              </a:tblGrid>
              <a:tr h="32076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6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6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6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57200" y="1125360"/>
          <a:ext cx="8435880" cy="534204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2280"/>
                <a:gridCol w="424080"/>
                <a:gridCol w="423720"/>
                <a:gridCol w="422280"/>
                <a:gridCol w="922320"/>
              </a:tblGrid>
              <a:tr h="30960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22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1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ana do Socorro Machado Rodrigues - MPS</cp:lastModifiedBy>
  <cp:lastPrinted>2015-03-12T22:39:06Z</cp:lastPrinted>
  <dcterms:modified xsi:type="dcterms:W3CDTF">2015-03-16T19:13:12Z</dcterms:modified>
  <cp:revision>161</cp:revision>
  <dc:subject/>
  <dc:title>Slide 1</dc:title>
</cp:coreProperties>
</file>